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CAF-2800-4BC3-A5F9-E81AA228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AC5-B083-42FD-96F2-B982E6B0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673-C820-4FE0-A574-05FEA30A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B3C-80A9-4B6B-9209-828215F2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B62F-341F-45D4-9B37-EB9467DA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214E-AE0B-49FA-94CC-5A9ED22A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3CDE-A397-480B-8720-FEEE5B05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8D54-44D1-4635-AF5B-C8AAE2A7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7CF6-100B-4D15-8001-F03FA55D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AFA7-6F80-45C4-B1A7-6E68C4B7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3343-DAF4-4A7B-9780-06FE1520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BD98-FBD1-4658-9D37-008C41CD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45EF-0F04-445D-BC1F-C353D469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E8CA-4366-428D-9877-43F099C2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073B-FE6C-4A4D-A12E-6C30C0CE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F1F5-D474-4B53-BE01-C9285900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3648-9EF6-4684-B5B0-DCBD82D7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296-4946-4C47-9B83-CBFF26FB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949-5B9E-4E20-AA66-319447FC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BEC-F4A6-465F-A735-87AA4F78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B258-5883-45AE-94CA-598E99D3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994-04CA-42DC-925A-1C0978B6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ED6-857E-497B-9439-15CC02B0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2BB3-7B63-4AAE-BF53-7995F599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BDC7-48D9-49D6-8D18-5F0927D30B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F878-498D-4593-B054-C9C6947A5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dimentary Rocks: Digging Deeper (pg. U8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RT 8, 8/28/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th Sc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. Comerf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diment 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Ro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ied deep = high pressur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duction in s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filters through, leaves cement beh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os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 out ur phon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3 to txt me the correct answer will win a free hw pas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’s the Q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organic sedimentary rocks made of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970-270-7489, txt now!!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rm-u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3 types of sedimentary rock (discussed yesterday)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 an example of ea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the words “compact” and “cement” mean to you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B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sedimentary rock classification and 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y knowledge of sedimentary rocks to situational 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dimentary Ro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y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diments combine, solidify into r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ndst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ck Sa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 Types - Match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ndst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ck Sa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 Types - Defin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gments from other rocks, moved, deposit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evaporates, minerals (crystals) precipi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ains of living th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cations - Clast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ce lower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ce shallow s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Sandst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ean, shoreline, dese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cation - Chemic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e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k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Limest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cation - Organ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ried deep undergr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ts of former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Co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wamps, Antarctic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12:57:55Z</dcterms:created>
  <dc:creator> </dc:creator>
  <dc:description/>
  <dc:language>en-US</dc:language>
  <cp:lastModifiedBy> </cp:lastModifiedBy>
  <dcterms:modified xsi:type="dcterms:W3CDTF">2009-08-28T15:07:20Z</dcterms:modified>
  <cp:revision>6</cp:revision>
  <dc:subject/>
  <dc:title>Sedimentary Rocks: Digging Deeper (pg. U8)</dc:title>
</cp:coreProperties>
</file>